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0"/>
          </p:nvPr>
        </p:nvSpPr>
        <p:spPr>
          <a:xfrm>
            <a:off x="385560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21"/>
          </p:nvPr>
        </p:nvSpPr>
        <p:spPr>
          <a:xfrm>
            <a:off x="-3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22"/>
          </p:nvPr>
        </p:nvSpPr>
        <p:spPr>
          <a:xfrm>
            <a:off x="385560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B784-6409-4DA9-8AA5-C86EC8EE8C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7E61-9578-4443-BA61-4BCF9C808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A1C-5A04-454F-8D99-B507E13A73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0F9A-EC72-43D2-84D5-947EE6B12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284B-14FE-49F0-B3F2-12B6932B18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770280" y="927576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995-C5E3-412C-9D7C-4A125AFDFFE9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772080" y="9275760"/>
            <a:ext cx="2881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D4E-B1F5-4E6C-9AF4-DEFAD9EE7091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65280" y="4640040"/>
            <a:ext cx="5324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770280" y="927576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5775-DBF2-4D55-841E-2F76A87DBFF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772080" y="9275760"/>
            <a:ext cx="2881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B0E4-7238-4779-ABEF-B164CCD5AEE2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65280" y="4640040"/>
            <a:ext cx="5324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848-0190-4A85-8C3A-0CA0DE2A5C9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974-F850-4DE1-AF8C-2849582E7F1D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D547-2EB2-4A94-9F91-11E1402E9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5704-B737-4B34-994D-A53C1630A4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0D9-18D8-42D3-910C-B8D816F19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37EE-F0C1-4364-909A-47130CC193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ECD-BD5D-4DEE-9978-5C21E0899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C66-C918-4158-8904-16F6BB6084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42F-A610-4E4A-A448-F365BC62675F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ABB-7ECD-4DF7-BABD-76BAB21DF2FA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9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logo_ce-eac_en"/>
          <p:cNvPicPr/>
          <p:nvPr/>
        </p:nvPicPr>
        <p:blipFill>
          <a:blip r:embed="rId2"/>
          <a:stretch/>
        </p:blipFill>
        <p:spPr>
          <a:xfrm>
            <a:off x="3713040" y="330120"/>
            <a:ext cx="2054520" cy="14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C41-25B5-41F1-AEA8-25339323B4E1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124E-1CC0-49C1-86DE-7CCCF3E2C717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7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4776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17F-5C1E-4D3D-848C-378EBEEFEFDD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9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E64-2878-4C03-972A-0BF0FAFA4868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1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94FD-DEBC-4F35-BD02-60114B099121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3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6FC-00CE-49CB-9964-7EFB1F845DD8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5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EA8-54A1-47DD-A9DF-0C5CF23D7584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51280" y="6381360"/>
            <a:ext cx="169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f5494"/>
              </a:solidFill>
              <a:latin typeface="Verdana Bold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2"/>
          <a:srcRect l="5030" t="0" r="5808" b="0"/>
          <a:stretch/>
        </p:blipFill>
        <p:spPr>
          <a:xfrm>
            <a:off x="-28440" y="0"/>
            <a:ext cx="9172440" cy="6912000"/>
          </a:xfrm>
          <a:prstGeom prst="rect">
            <a:avLst/>
          </a:prstGeom>
          <a:ln w="0">
            <a:noFill/>
          </a:ln>
        </p:spPr>
      </p:pic>
      <p:sp>
        <p:nvSpPr>
          <p:cNvPr id="450" name="Sous-titre 1"/>
          <p:cNvSpPr/>
          <p:nvPr/>
        </p:nvSpPr>
        <p:spPr>
          <a:xfrm>
            <a:off x="6235560" y="6043680"/>
            <a:ext cx="3354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haroni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5"/>
          <p:cNvSpPr/>
          <p:nvPr/>
        </p:nvSpPr>
        <p:spPr>
          <a:xfrm>
            <a:off x="2050920" y="2060640"/>
            <a:ext cx="4594320" cy="36003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4"/>
          <p:cNvGrpSpPr/>
          <p:nvPr/>
        </p:nvGrpSpPr>
        <p:grpSpPr>
          <a:xfrm>
            <a:off x="2916360" y="4292640"/>
            <a:ext cx="3273480" cy="1163520"/>
            <a:chOff x="2916360" y="4292640"/>
            <a:chExt cx="3273480" cy="1163520"/>
          </a:xfrm>
        </p:grpSpPr>
        <p:sp>
          <p:nvSpPr>
            <p:cNvPr id="453" name="AutoShape 6"/>
            <p:cNvSpPr/>
            <p:nvPr/>
          </p:nvSpPr>
          <p:spPr>
            <a:xfrm>
              <a:off x="3479400" y="4292640"/>
              <a:ext cx="27104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Picture 8" descr=""/>
            <p:cNvPicPr/>
            <p:nvPr/>
          </p:nvPicPr>
          <p:blipFill>
            <a:blip r:embed="rId3"/>
            <a:stretch/>
          </p:blipFill>
          <p:spPr>
            <a:xfrm>
              <a:off x="2916360" y="4736520"/>
              <a:ext cx="3178800" cy="7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Sous-titre 1"/>
          <p:cNvSpPr/>
          <p:nvPr/>
        </p:nvSpPr>
        <p:spPr>
          <a:xfrm>
            <a:off x="1884240" y="2370240"/>
            <a:ext cx="4788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 </a:t>
            </a:r>
            <a:r>
              <a:rPr b="0" lang="fr-BE" sz="4000" spc="-1" strike="noStrike">
                <a:solidFill>
                  <a:srgbClr val="0f5494"/>
                </a:solidFill>
                <a:latin typeface="Verdana Bold"/>
                <a:ea typeface="Aharoni"/>
              </a:rPr>
              <a:t>International </a:t>
            </a:r>
            <a:r>
              <a:rPr b="0" lang="en-GB" sz="4000" spc="-1" strike="noStrike">
                <a:solidFill>
                  <a:srgbClr val="0f5494"/>
                </a:solidFill>
                <a:latin typeface="Verdana Bold"/>
                <a:ea typeface="Aharoni"/>
              </a:rPr>
              <a:t>opportunities for Higher Educ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7640" y="1773360"/>
            <a:ext cx="87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articular focus on: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individuals from lower middle-income countries;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economically and socially disadvantaged individuals in partner countries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gender balance, while taking into account the overall number of active university students of each gender in the partner country;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disabled people;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individuals belonging to vulnerable groups in conflict regions/countries, such  as internally displaced persons</a:t>
            </a:r>
            <a:br>
              <a:rPr sz="1600"/>
            </a:b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and refugees.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25" name="Picture 12" descr="C:\Program Files (x86)\Microsoft Office\MEDIA\CAGCAT10\j0293234.wmf"/>
          <p:cNvPicPr/>
          <p:nvPr/>
        </p:nvPicPr>
        <p:blipFill>
          <a:blip r:embed="rId1"/>
          <a:stretch/>
        </p:blipFill>
        <p:spPr>
          <a:xfrm>
            <a:off x="7329600" y="4508640"/>
            <a:ext cx="1565280" cy="1155600"/>
          </a:xfrm>
          <a:prstGeom prst="rect">
            <a:avLst/>
          </a:prstGeom>
          <a:ln w="0">
            <a:noFill/>
          </a:ln>
        </p:spPr>
      </p:pic>
      <p:sp>
        <p:nvSpPr>
          <p:cNvPr id="526" name="ZoneTexte 60"/>
          <p:cNvSpPr/>
          <p:nvPr/>
        </p:nvSpPr>
        <p:spPr>
          <a:xfrm>
            <a:off x="179280" y="708120"/>
            <a:ext cx="2521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 Bold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7640" y="1773360"/>
            <a:ext cx="87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Indicative budget 2014-2017 for Latin America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UR 20.0 million (of which at least 25% for LMICs, 35% max. for Brazil and Mexico together, 40% rest of Latin America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f497d"/>
                </a:solidFill>
                <a:latin typeface="Verdana"/>
              </a:rPr>
              <a:t>About 800 mobilities per year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30" name="Picture 12" descr="C:\Program Files (x86)\Microsoft Office\MEDIA\CAGCAT10\j0293234.wmf"/>
          <p:cNvPicPr/>
          <p:nvPr/>
        </p:nvPicPr>
        <p:blipFill>
          <a:blip r:embed="rId1"/>
          <a:stretch/>
        </p:blipFill>
        <p:spPr>
          <a:xfrm>
            <a:off x="7329600" y="4508640"/>
            <a:ext cx="1565280" cy="1155600"/>
          </a:xfrm>
          <a:prstGeom prst="rect">
            <a:avLst/>
          </a:prstGeom>
          <a:ln w="0">
            <a:noFill/>
          </a:ln>
        </p:spPr>
      </p:pic>
      <p:sp>
        <p:nvSpPr>
          <p:cNvPr id="531" name="ZoneTexte 60"/>
          <p:cNvSpPr/>
          <p:nvPr/>
        </p:nvSpPr>
        <p:spPr>
          <a:xfrm>
            <a:off x="179280" y="708120"/>
            <a:ext cx="2521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 Bold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8360" y="2708280"/>
            <a:ext cx="8229960" cy="3418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34" name="Picture 5" descr=""/>
          <p:cNvPicPr/>
          <p:nvPr/>
        </p:nvPicPr>
        <p:blipFill>
          <a:blip r:embed="rId1"/>
          <a:stretch/>
        </p:blipFill>
        <p:spPr>
          <a:xfrm>
            <a:off x="1380960" y="1739880"/>
            <a:ext cx="6508800" cy="488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51280" y="6381360"/>
            <a:ext cx="169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f5494"/>
              </a:solidFill>
              <a:latin typeface="Verdana Bold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2"/>
          <a:srcRect l="5030" t="0" r="5808" b="0"/>
          <a:stretch/>
        </p:blipFill>
        <p:spPr>
          <a:xfrm>
            <a:off x="-28440" y="0"/>
            <a:ext cx="9172440" cy="6912000"/>
          </a:xfrm>
          <a:prstGeom prst="rect">
            <a:avLst/>
          </a:prstGeom>
          <a:ln w="0">
            <a:noFill/>
          </a:ln>
        </p:spPr>
      </p:pic>
      <p:sp>
        <p:nvSpPr>
          <p:cNvPr id="461" name="Sous-titre 1"/>
          <p:cNvSpPr/>
          <p:nvPr/>
        </p:nvSpPr>
        <p:spPr>
          <a:xfrm>
            <a:off x="6235560" y="6043680"/>
            <a:ext cx="3354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haroni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3"/>
          <a:stretch/>
        </p:blipFill>
        <p:spPr>
          <a:xfrm>
            <a:off x="1547640" y="1400040"/>
            <a:ext cx="619308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51280" y="6381360"/>
            <a:ext cx="169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f5494"/>
              </a:solidFill>
              <a:latin typeface="Verdana Bold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2"/>
          <a:srcRect l="5030" t="0" r="5808" b="0"/>
          <a:stretch/>
        </p:blipFill>
        <p:spPr>
          <a:xfrm>
            <a:off x="-28440" y="0"/>
            <a:ext cx="9172440" cy="6912000"/>
          </a:xfrm>
          <a:prstGeom prst="rect">
            <a:avLst/>
          </a:prstGeom>
          <a:ln w="0">
            <a:noFill/>
          </a:ln>
        </p:spPr>
      </p:pic>
      <p:sp>
        <p:nvSpPr>
          <p:cNvPr id="468" name="Freeform 6"/>
          <p:cNvSpPr/>
          <p:nvPr/>
        </p:nvSpPr>
        <p:spPr>
          <a:xfrm>
            <a:off x="2050920" y="387360"/>
            <a:ext cx="4594320" cy="5273640"/>
          </a:xfrm>
          <a:prstGeom prst="pi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3"/>
          <a:stretch/>
        </p:blipFill>
        <p:spPr>
          <a:xfrm>
            <a:off x="2050920" y="387360"/>
            <a:ext cx="3859200" cy="1170000"/>
          </a:xfrm>
          <a:prstGeom prst="rect">
            <a:avLst/>
          </a:prstGeom>
          <a:ln w="0">
            <a:noFill/>
          </a:ln>
        </p:spPr>
      </p:pic>
      <p:sp>
        <p:nvSpPr>
          <p:cNvPr id="470" name="Sous-titre 1"/>
          <p:cNvSpPr/>
          <p:nvPr/>
        </p:nvSpPr>
        <p:spPr>
          <a:xfrm>
            <a:off x="1935000" y="1147680"/>
            <a:ext cx="47880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 </a:t>
            </a:r>
            <a:r>
              <a:rPr b="0" lang="fr-BE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Cred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mobil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4"/>
          <p:cNvGrpSpPr/>
          <p:nvPr/>
        </p:nvGrpSpPr>
        <p:grpSpPr>
          <a:xfrm>
            <a:off x="3371760" y="4292640"/>
            <a:ext cx="3273480" cy="1163520"/>
            <a:chOff x="3371760" y="4292640"/>
            <a:chExt cx="3273480" cy="1163520"/>
          </a:xfrm>
        </p:grpSpPr>
        <p:sp>
          <p:nvSpPr>
            <p:cNvPr id="472" name="AutoShape 6"/>
            <p:cNvSpPr/>
            <p:nvPr/>
          </p:nvSpPr>
          <p:spPr>
            <a:xfrm>
              <a:off x="3934800" y="4292640"/>
              <a:ext cx="27104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8" descr=""/>
            <p:cNvPicPr/>
            <p:nvPr/>
          </p:nvPicPr>
          <p:blipFill>
            <a:blip r:embed="rId4"/>
            <a:stretch/>
          </p:blipFill>
          <p:spPr>
            <a:xfrm>
              <a:off x="3371760" y="4736520"/>
              <a:ext cx="3178800" cy="7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Sous-titre 1"/>
          <p:cNvSpPr/>
          <p:nvPr/>
        </p:nvSpPr>
        <p:spPr>
          <a:xfrm>
            <a:off x="6235560" y="6043680"/>
            <a:ext cx="3354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haroni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8920" y="1345680"/>
            <a:ext cx="8929800" cy="38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9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Better knowledge of higher education in other region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xchange of knowledge, ideas, contacts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mproves linguistic skills, intercultural experienc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mproves employability through recognition of qualifications &amp; study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eriods abroad + placemen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mproves quality of teaching and learning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77" name="ZoneTexte 60"/>
          <p:cNvSpPr/>
          <p:nvPr/>
        </p:nvSpPr>
        <p:spPr>
          <a:xfrm>
            <a:off x="250920" y="333360"/>
            <a:ext cx="3168720" cy="1191240"/>
          </a:xfrm>
          <a:prstGeom prst="rect">
            <a:avLst/>
          </a:prstGeom>
          <a:solidFill>
            <a:srgbClr val="f7c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WHY is student mobilit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4541760" y="4621320"/>
            <a:ext cx="4492800" cy="2693880"/>
          </a:xfrm>
          <a:prstGeom prst="rect">
            <a:avLst/>
          </a:prstGeom>
          <a:ln w="0">
            <a:noFill/>
          </a:ln>
        </p:spPr>
      </p:pic>
      <p:pic>
        <p:nvPicPr>
          <p:cNvPr id="479" name="Image 3" descr=""/>
          <p:cNvPicPr/>
          <p:nvPr/>
        </p:nvPicPr>
        <p:blipFill>
          <a:blip r:embed="rId2"/>
          <a:stretch/>
        </p:blipFill>
        <p:spPr>
          <a:xfrm>
            <a:off x="2949480" y="4159080"/>
            <a:ext cx="2363760" cy="157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0" name="Image 6" descr=""/>
          <p:cNvPicPr/>
          <p:nvPr/>
        </p:nvPicPr>
        <p:blipFill>
          <a:blip r:embed="rId3"/>
          <a:stretch/>
        </p:blipFill>
        <p:spPr>
          <a:xfrm>
            <a:off x="6662880" y="3736800"/>
            <a:ext cx="2279520" cy="1706760"/>
          </a:xfrm>
          <a:prstGeom prst="rect">
            <a:avLst/>
          </a:prstGeom>
          <a:ln w="0">
            <a:noFill/>
          </a:ln>
        </p:spPr>
      </p:pic>
      <p:pic>
        <p:nvPicPr>
          <p:cNvPr id="481" name="Image 7" descr=""/>
          <p:cNvPicPr/>
          <p:nvPr/>
        </p:nvPicPr>
        <p:blipFill>
          <a:blip r:embed="rId4"/>
          <a:stretch/>
        </p:blipFill>
        <p:spPr>
          <a:xfrm>
            <a:off x="662040" y="4338720"/>
            <a:ext cx="2181240" cy="2259000"/>
          </a:xfrm>
          <a:prstGeom prst="rect">
            <a:avLst/>
          </a:prstGeom>
          <a:ln w="0">
            <a:noFill/>
          </a:ln>
        </p:spPr>
      </p:pic>
      <p:sp>
        <p:nvSpPr>
          <p:cNvPr id="482" name="Footer Placeholder 4"/>
          <p:cNvSpPr/>
          <p:nvPr/>
        </p:nvSpPr>
        <p:spPr>
          <a:xfrm>
            <a:off x="3124080" y="65530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4211640" y="65246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oneTexte 60"/>
          <p:cNvSpPr/>
          <p:nvPr/>
        </p:nvSpPr>
        <p:spPr>
          <a:xfrm>
            <a:off x="179280" y="1095480"/>
            <a:ext cx="2737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Image 3" descr=""/>
          <p:cNvPicPr/>
          <p:nvPr/>
        </p:nvPicPr>
        <p:blipFill>
          <a:blip r:embed="rId1"/>
          <a:stretch/>
        </p:blipFill>
        <p:spPr>
          <a:xfrm>
            <a:off x="6156360" y="1790640"/>
            <a:ext cx="2498760" cy="16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6" name="Image 7" descr=""/>
          <p:cNvPicPr/>
          <p:nvPr/>
        </p:nvPicPr>
        <p:blipFill>
          <a:blip r:embed="rId2"/>
          <a:stretch/>
        </p:blipFill>
        <p:spPr>
          <a:xfrm>
            <a:off x="595440" y="1668600"/>
            <a:ext cx="190476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78920" y="3594240"/>
            <a:ext cx="914580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Replaces Action 2 of Erasmus Mundus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Both for students and staff (for learning and teaching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ction managed by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ational Agencies located in Europe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Use of same quality instruments: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505080" indent="-194040">
              <a:lnSpc>
                <a:spcPct val="110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Erasmus Charter for Higher Education.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lvl="1" marL="505080" indent="-194040">
              <a:lnSpc>
                <a:spcPct val="110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Inter-institutional agreements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lvl="1" marL="505080" indent="-194040">
              <a:lnSpc>
                <a:spcPct val="110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Learning agreements for students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-36360" y="981000"/>
            <a:ext cx="4248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 Bold"/>
              </a:rPr>
              <a:t>… </a:t>
            </a:r>
            <a:r>
              <a:rPr b="1" lang="en-GB" sz="2400" spc="-1" strike="noStrike">
                <a:solidFill>
                  <a:srgbClr val="0f5494"/>
                </a:solidFill>
                <a:latin typeface="Verdana Bold"/>
              </a:rPr>
              <a:t>in othe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oneTexte 60"/>
          <p:cNvSpPr/>
          <p:nvPr/>
        </p:nvSpPr>
        <p:spPr>
          <a:xfrm>
            <a:off x="179280" y="1095480"/>
            <a:ext cx="3313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haroni"/>
              </a:rPr>
              <a:t>Student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Title 1"/>
          <p:cNvGrpSpPr/>
          <p:nvPr/>
        </p:nvGrpSpPr>
        <p:grpSpPr>
          <a:xfrm>
            <a:off x="-1395360" y="1792440"/>
            <a:ext cx="8637480" cy="1139760"/>
            <a:chOff x="-1395360" y="1792440"/>
            <a:chExt cx="8637480" cy="1139760"/>
          </a:xfrm>
        </p:grpSpPr>
        <p:pic>
          <p:nvPicPr>
            <p:cNvPr id="491" name="Title 1" descr=""/>
            <p:cNvPicPr/>
            <p:nvPr/>
          </p:nvPicPr>
          <p:blipFill>
            <a:blip r:embed="rId1"/>
            <a:stretch/>
          </p:blipFill>
          <p:spPr>
            <a:xfrm>
              <a:off x="-1395360" y="1792440"/>
              <a:ext cx="86374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-1353960" y="1835280"/>
              <a:ext cx="822960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58920" indent="-35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f5494"/>
                  </a:solidFill>
                  <a:latin typeface="Verdana"/>
                </a:rPr>
                <a:t>Student credit mo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 txBox="1"/>
          <p:nvPr/>
        </p:nvSpPr>
        <p:spPr>
          <a:xfrm>
            <a:off x="107640" y="2560320"/>
            <a:ext cx="87850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  <a:ea typeface="Verdana"/>
              </a:rPr>
              <a:t>All levels of higher education (short cycle,</a:t>
            </a:r>
            <a:br>
              <a:rPr sz="1800"/>
            </a:br>
            <a:r>
              <a:rPr b="0" lang="fr-BE" sz="1800" spc="-1" strike="noStrike">
                <a:solidFill>
                  <a:srgbClr val="1f497d"/>
                </a:solidFill>
                <a:latin typeface="Verdana"/>
                <a:ea typeface="Verdana"/>
              </a:rPr>
              <a:t>Bachelor, Master, Doctoral levels) </a:t>
            </a:r>
            <a:br>
              <a:rPr sz="1800"/>
            </a:br>
            <a:r>
              <a:rPr b="0" lang="fr-BE" sz="1800" spc="-1" strike="noStrike">
                <a:solidFill>
                  <a:srgbClr val="1f497d"/>
                </a:solidFill>
                <a:latin typeface="Verdana"/>
                <a:ea typeface="Verdana"/>
              </a:rPr>
              <a:t>+ recent graduates + all disciplines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From 3 to 12 months for studies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From 2 to 12 months for traineeships </a:t>
            </a:r>
            <a:br>
              <a:rPr sz="1800"/>
            </a:br>
            <a:r>
              <a:rPr b="0" i="1" lang="en-GB" sz="1800" spc="-1" strike="noStrike">
                <a:solidFill>
                  <a:srgbClr val="1f497d"/>
                </a:solidFill>
                <a:latin typeface="Verdana"/>
              </a:rPr>
              <a:t>(not open to partner countries in first 2 years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Each student can benefit up to 12 months per study cycle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For staff – from 5 days to 2 months (for retraining or teaching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41972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apprenticeship"/>
          <p:cNvPicPr/>
          <p:nvPr/>
        </p:nvPicPr>
        <p:blipFill>
          <a:blip r:embed="rId2"/>
          <a:stretch/>
        </p:blipFill>
        <p:spPr>
          <a:xfrm>
            <a:off x="6227640" y="160344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96" name="Image 8" descr=""/>
          <p:cNvPicPr/>
          <p:nvPr/>
        </p:nvPicPr>
        <p:blipFill>
          <a:blip r:embed="rId3"/>
          <a:stretch/>
        </p:blipFill>
        <p:spPr>
          <a:xfrm>
            <a:off x="5796000" y="2646360"/>
            <a:ext cx="144000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8"/>
          <p:cNvSpPr/>
          <p:nvPr/>
        </p:nvSpPr>
        <p:spPr>
          <a:xfrm>
            <a:off x="-85680" y="620712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-36360" y="981000"/>
            <a:ext cx="4248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… </a:t>
            </a: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in othe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oneTexte 60"/>
          <p:cNvSpPr/>
          <p:nvPr/>
        </p:nvSpPr>
        <p:spPr>
          <a:xfrm>
            <a:off x="179280" y="1095480"/>
            <a:ext cx="2737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Bette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Content Placeholder 2"/>
          <p:cNvGrpSpPr/>
          <p:nvPr/>
        </p:nvGrpSpPr>
        <p:grpSpPr>
          <a:xfrm>
            <a:off x="-2530440" y="317520"/>
            <a:ext cx="4913280" cy="1401840"/>
            <a:chOff x="-2530440" y="317520"/>
            <a:chExt cx="4913280" cy="1401840"/>
          </a:xfrm>
        </p:grpSpPr>
        <p:pic>
          <p:nvPicPr>
            <p:cNvPr id="50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2530440" y="317520"/>
              <a:ext cx="491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-2484360" y="357120"/>
              <a:ext cx="450036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1"/>
          <p:cNvSpPr/>
          <p:nvPr/>
        </p:nvSpPr>
        <p:spPr>
          <a:xfrm>
            <a:off x="174600" y="2744640"/>
            <a:ext cx="5981760" cy="36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Erasmus Charter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for Higher Education – for Partner countries, the principles of the Charter are embedded in the inter-institutiona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Inter-institutional agreements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to set mobility flows &amp; pre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Learning Agreement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65240" y="1959120"/>
            <a:ext cx="61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entury Gothic"/>
              </a:rPr>
              <a:t>Erasmus qua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8" descr=""/>
          <p:cNvPicPr/>
          <p:nvPr/>
        </p:nvPicPr>
        <p:blipFill>
          <a:blip r:embed="rId2"/>
          <a:stretch/>
        </p:blipFill>
        <p:spPr>
          <a:xfrm>
            <a:off x="6516720" y="2809800"/>
            <a:ext cx="2298600" cy="29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-85680" y="620712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-36360" y="981000"/>
            <a:ext cx="4248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… </a:t>
            </a: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in othe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oneTexte 60"/>
          <p:cNvSpPr/>
          <p:nvPr/>
        </p:nvSpPr>
        <p:spPr>
          <a:xfrm>
            <a:off x="179280" y="1095480"/>
            <a:ext cx="2737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Erasmus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Content Placeholder 2"/>
          <p:cNvGrpSpPr/>
          <p:nvPr/>
        </p:nvGrpSpPr>
        <p:grpSpPr>
          <a:xfrm>
            <a:off x="-2530440" y="317520"/>
            <a:ext cx="4913280" cy="1401840"/>
            <a:chOff x="-2530440" y="317520"/>
            <a:chExt cx="4913280" cy="1401840"/>
          </a:xfrm>
        </p:grpSpPr>
        <p:pic>
          <p:nvPicPr>
            <p:cNvPr id="51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2530440" y="317520"/>
              <a:ext cx="491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-2484360" y="357120"/>
              <a:ext cx="450036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"/>
          <p:cNvSpPr/>
          <p:nvPr/>
        </p:nvSpPr>
        <p:spPr>
          <a:xfrm>
            <a:off x="179280" y="1916280"/>
            <a:ext cx="597708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Non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Full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No fees cha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Publish  </a:t>
            </a: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c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ourse </a:t>
            </a: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c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atalo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G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ood preparation of mobile </a:t>
            </a: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students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 (language, documents, log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Assistance for visas, accommodation,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Guidance to incoming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Equal academic treatment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Integration into the loc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Linquistic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8" descr=""/>
          <p:cNvPicPr/>
          <p:nvPr/>
        </p:nvPicPr>
        <p:blipFill>
          <a:blip r:embed="rId2"/>
          <a:stretch/>
        </p:blipFill>
        <p:spPr>
          <a:xfrm>
            <a:off x="6516720" y="2809800"/>
            <a:ext cx="2298600" cy="29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H:\Claire\education mobility.jpg"/>
          <p:cNvPicPr/>
          <p:nvPr/>
        </p:nvPicPr>
        <p:blipFill>
          <a:blip r:embed="rId1"/>
          <a:stretch/>
        </p:blipFill>
        <p:spPr>
          <a:xfrm>
            <a:off x="6156360" y="1473120"/>
            <a:ext cx="2736720" cy="1719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107640" y="1773360"/>
            <a:ext cx="87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Level of grants adapted to international mobility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   </a:t>
            </a: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+ organisational support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European universities apply on behalf of the partnership  for: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Sending and receiving mobility to/from Partner countries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Individually or within a consortium (only between 2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countries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Verdana"/>
              </a:rPr>
              <a:t>When to apply? </a:t>
            </a: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Call for proposals published in Sept 2014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Mobilities for the 2015/16 academic year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20" name="Picture 12" descr="C:\Program Files (x86)\Microsoft Office\MEDIA\CAGCAT10\j0293234.wmf"/>
          <p:cNvPicPr/>
          <p:nvPr/>
        </p:nvPicPr>
        <p:blipFill>
          <a:blip r:embed="rId2"/>
          <a:stretch/>
        </p:blipFill>
        <p:spPr>
          <a:xfrm>
            <a:off x="7329600" y="4508640"/>
            <a:ext cx="1565280" cy="1155600"/>
          </a:xfrm>
          <a:prstGeom prst="rect">
            <a:avLst/>
          </a:prstGeom>
          <a:ln w="0">
            <a:noFill/>
          </a:ln>
        </p:spPr>
      </p:pic>
      <p:sp>
        <p:nvSpPr>
          <p:cNvPr id="521" name="ZoneTexte 60"/>
          <p:cNvSpPr/>
          <p:nvPr/>
        </p:nvSpPr>
        <p:spPr>
          <a:xfrm>
            <a:off x="179280" y="708120"/>
            <a:ext cx="2521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 Bold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37:33Z</dcterms:created>
  <dc:creator>Vanessa.DEBIAIS-SAINTON@ec.europa.eu</dc:creator>
  <dc:description/>
  <dc:language>en-US</dc:language>
  <cp:lastModifiedBy>LENNAN Deirdre (EAC)</cp:lastModifiedBy>
  <cp:lastPrinted>2013-06-19T10:20:14Z</cp:lastPrinted>
  <dcterms:modified xsi:type="dcterms:W3CDTF">2014-06-23T12:03:26Z</dcterms:modified>
  <cp:revision>1037</cp:revision>
  <dc:subject/>
  <dc:title>Slide 1</dc:title>
</cp:coreProperties>
</file>